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98C-A66C-448A-B9B5-98DA37B8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to think that representative government is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scape the state of nature (which in Kant is a state of war) through a state, ought we not to take the next step and form a world st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Vi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t’s essay is itself a marvel of cosmopolitan enlightenment – full of sympathetic references to places and people that he never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based on Kant’s historic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2 includes a prohibition on the use of mercen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reliminary articles are based on Kant’s historical experience. What are some modern equival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A08-23AB-47FF-93B8-7BAC04D4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881-E456-4859-8831-3DC9D240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0AD-BE72-47FD-A8C4-D528CE06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5DB-9F43-4368-879E-97DF56A2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0DF-88DD-4A58-A042-E7A73BF6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68C-6728-490D-B19A-ACF94ED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6C1-ECEA-42A8-A92F-F052E34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ACA-D12F-4ACA-A150-54D1337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3E2-313C-461F-AADA-B63A839A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8A7-A28D-4FA4-975C-3D36153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DA3-F738-40A0-8FF1-2CF057C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EB4-D813-436B-87A7-8B2AF5C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E31-F897-4B3F-97B1-BD8C0146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51460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333399"/>
                </a:solidFill>
                <a:latin typeface="Arial"/>
              </a:rPr>
              <a:t>Kant and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333399"/>
                </a:solidFill>
                <a:latin typeface="Arial"/>
              </a:rPr>
              <a:t>Perpetual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4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Definitive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ivil Constitution of Every State Should Be Republican” (principle of civil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w of Nations Shall be Founded on a Federation of Free States” (principle of international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w of World Citizenship Shall Be Limited to Conditions of Universal Hospitality” (principle of cosmopolitan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he Civil Constitution of Each State Shall Be Republi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publican constit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we expect that republican constitutions are more likely to lead to peace than other constit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publican constitutions always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publican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itution where the people are only subject to laws it give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executive and legislative power are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in Kant’s time such constitutions hardly ex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peac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ople (through its representatives) has to decide on whether or not to go to war, it will weigh its costs much more carefully than when a despotic ruler decides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organizing a state, however hard it may seem, can be solved even for a race of devils, if only they are intellig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ublican co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human nature is “depraved” we can create constitutions that have a peaceful ten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deration of free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ederation of free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it promote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federation of fre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a world state or a super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cerned only with regulating international disputes among its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a world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 in a world state would be accomplished at the cost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separates us through language and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peac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eder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e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, republica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ates would be tied together by relations which make war much more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perpetual peace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7920" y="2147760"/>
            <a:ext cx="2648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ful free people may serve as the nucleus of a federation, which might then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everal regional federations might grow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mopolitan Right as the Right of Hospit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it lead to pe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ight of hospit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visit and trade (not necessarily to l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lead to pe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is ultimately incompatible with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unteracts our natural “separating” tendencies (via language, culture, etc.) and creates mu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t argues against “conquest” in the name of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pirit of trade” sooner or later dominates ever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n end to war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annot be certain that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sible, then it is a duty to try to make it a re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not be contrary to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s must not be utterly incompatible with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State of Nature and K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s with Hobbe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state of nature is a state of war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uman beings have a duty to create political communities to get out of tha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 of Nature and K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s with Hobbes and Rouss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at the international system is also in a state of nature and hence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ut goes further in saying that we have a duty to end war in that stat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work towards this state, if we do not believe it is im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a Model Peace Trea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hat can be taken now to “wind down” a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and institutions that definitively end a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that the parties give to each other so that they know the other will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reement that is not made public but is necessary to make the peace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Preliminary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“preliminary articles” are designed, in Kant’s view, to make w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s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uture pea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pecific content is based on Kant’s historic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petual Peace: Preliminary 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Treaty of Peace Shall Be Held Valid in Wh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Is Tacitly Reserved Matt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Independent States, Large or Small, Shall Come under the Dominion of Another State by Inheritance, Exchange, Purchase, or Do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tanding Armies Shall in Time Be Totally Abolish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ational Debts Shall Not Be Contracted with a View to the External Friction of St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State Shall by Force Interfere with the Constit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Another 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 State Shall, during War, Permit Such Acts of Hostility Which Would Make Mutual Confidence in the Subsequent Peace Impo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3:37:15Z</dcterms:created>
  <dc:creator>Full Name</dc:creator>
  <dc:description/>
  <dc:language>en-US</dc:language>
  <cp:lastModifiedBy>Full Name</cp:lastModifiedBy>
  <dcterms:modified xsi:type="dcterms:W3CDTF">2008-09-23T22:38:55Z</dcterms:modified>
  <cp:revision>9</cp:revision>
  <dc:subject/>
  <dc:title>Kant</dc:title>
</cp:coreProperties>
</file>